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272-5F14-4C78-9C5E-1759D2C5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5C2-E133-4B85-BB0B-AD0199BA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749-F139-43E8-96E8-7056DACA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797-B811-4BDD-B720-0FE0A7F8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E33-3FA7-41A0-BECA-97C6C5CB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262-E9DD-40A2-A95F-2AD5E5B8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8E8-ED35-4D3C-A280-49C9506B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ED4-79CD-45F6-9291-04582724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DE3-6954-4BCD-864F-6282385C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2DB-CA57-410E-80CA-BEE06A2C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67E-32AB-488C-9DDF-EF92C4A9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278-26B8-4DEF-9E80-43CF4701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655B-DA33-4CF8-AD86-25CCCE10B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28769959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Особливості організації та проведення психолого - педагогічних консиліум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427640" y="4292640"/>
            <a:ext cx="4024080" cy="18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ислар О.В.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методист-псиихолог  РМК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28769959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ункції у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чителів – предметник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ів, виховател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99308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арактеризують конкретних учнів або їх групи за показни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труднощі та особливості що проявляються під час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усних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исьмових відповідей, відповідей біля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дошки; труднощ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що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иникають під час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своєння нового матеріалу або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овторення,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иконання творчих завда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можливі причини описаних труднощ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опис типового для учня емоційного стану на уро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опис ситуацій, що викликають в учнів різні емоційн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труднощі (плач, агресія, роздратування та і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28769959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109160" y="619200"/>
            <a:ext cx="73501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Функції медич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сест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Фізичний стан дитини на момент проведення консиліу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відповідність фізичного розвитку віковим норм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стан органів зору, слуху, кістково – м’язової систе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переносимість фізичних навантаж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Фактори ризи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наявність у минулому захворювань та травм, що можуть відбиватися на розвитку дити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фактори ризику за основними функціональними системами, наявність хронічних захворюв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Характеристика захворюваності за певний пері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28769959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4920" y="619200"/>
            <a:ext cx="80643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езультат консиліу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працьована комплексна програма супроводженн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конкретні напрями діяльності і психологічні і педагогічні заходи), що узгоджуються з усіма учасниками і є обов’язковими для всіх спеціалістів, що ведуть навчальну, виховну, корекційну та розвивальну роботу з учнями цього кла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озподілені між його учасниками обов’язк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щодо ведення супроводжувальної та консультативної роботи, з визначенням приблизних строків викон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дсумковий наказ,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який затверджує рішення консиліум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826920" y="836640"/>
            <a:ext cx="77774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сихолого - педагогічний консиліу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це форма  залучення всіх зацікавлених осіб до обговорення та втілення конкретних напрямів діяльност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едагогічних і психологічних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ходів для ефективного вирішення проблемної шкільної ситуації на ос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і рівноправного співробітництва та особистої відповідальності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8360" y="8362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вданн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ихолого – педагогіч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о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консиліу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ення цілісного портрету школя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явлення характеру та причин відхилень у навчанні та поведінці учн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програми виховних та корекційних заход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ення шляхів та засобів корекційно – розвивальної роботи для педагогів та бать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10920" y="620280"/>
            <a:ext cx="806436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инцип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ї психолого – педагогічного консиліум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комплексність вивчен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ередбачає тісну взаємодію різних спеціалісті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дотримання інтересів учн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8769959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Види психолого – педагогіч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х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консиліу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1440" y="1267920"/>
            <a:ext cx="8013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ервинні консиліуми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проводяться після завершення обстеження (кінець жовтня). Їхня мета – визначення особливостей розвитку школярів, можливих умов і форм їх навчання, необхідного супроводження педагогічного проце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ланові консиліуми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–проводяться в березні. Їх мета – оцінка динаміки процесу навчання та корекційних заходів, а також у разі необхідності внесення поправок та доповнень до корекційної або розвивальної роботи з  учн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Заключні консиліуми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– проводяться на заключних етапах навчання та завершенням корекційної роботи. Мета – оцінка знань учнів, стану емоційно – вольової та пізнавальної сфери, прогнозування успішності учнів у подальшому навчанн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озапланові консиліуми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проводяться на вимогу класного керівника або інших педагогів, що працюють з учнями в разі необхідності (виникнення несподіваних проблем у навчанні, вихованні або в процесі корекційної роботи. раптових афективних реакцій. Мета – виявлення причин проблеми, що виникла, знаходження адекватних способів її подолання. До участі в таких консиліумах, як правило запрошуються учні відповідного кла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28769959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Склад консиліум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44792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заступник з навчально-виховної робо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сихоло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- класний керівни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учителі–предметники, що викладають у відповідному класі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ихователі, які здійснюють педагогічну роботу у позаурочний час;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едична сестра (за наявності і потреби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логопед  (за наявності і потреб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539280" y="404640"/>
            <a:ext cx="80139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Функції заступника директора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дає організаційну, адміністративну та методичну допомо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ляє схему проведення консиліум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становлює порядок обговорення та слідкує за дотриманням регламенту обговоре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тримує та аналізує узагальнену інформацію щодо класів, паралелей та окремих учнів (по відношенню до яких потрібне індивідуальне обговорення або співбесіда з батька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нтролює хід реалізації програми супроводж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971640" y="620640"/>
            <a:ext cx="742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Функції психоло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дійснює обробку психодіагностичних обстежень, що були проведені згідно з програмою підготов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готує інформацію за двома напрям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Інформація про конкретних учн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) опис індивідуально – психологічних особливостей уч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2) сфери психічного життя дитини, у яких виявлено певні порушення або відхилення  від вікової, психічної або соціальної норми. По можливості вказуються причини існуючих поруше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3) сфери психічного життя, розвиток яких характеризується вираженими індивідуальними особливостями та опис їхніх реальних прояв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4) адекватні форми супроводж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Узагальнена інформація щодо класу (зведені таблиці показників, що вивчаються на етапі діагнос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8769959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Функції  клас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го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керів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ираючись на результати власних спостережень та систематизації спостережень інших педагогів, готує педагогічну та психологічну характеристику навчальної діяльності й поведінки класу в цілому та окремих учнів, за такими показни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кількісні та якісні характеристики навчальної  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діяльності (успішність з предметів. можлив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ричини низької або нерівної успішності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психологічні особливості класу (за результатами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діагностики та консультацій психолог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показники поведінки та спілкування в навчальних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ситуаці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умови сімейного вихо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7T12:05:30Z</dcterms:created>
  <dc:creator>ноутбук</dc:creator>
  <dc:description/>
  <dc:language>en-US</dc:language>
  <cp:lastModifiedBy>User</cp:lastModifiedBy>
  <dcterms:modified xsi:type="dcterms:W3CDTF">2015-12-15T10:22:06Z</dcterms:modified>
  <cp:revision>61</cp:revision>
  <dc:subject/>
  <dc:title>Основні форми та методи підвищення фахової майстерності працівників психологічної служби Глибоцького району</dc:title>
</cp:coreProperties>
</file>