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310F-0FC9-4EB9-AD53-B7307C49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8BF-2E84-4EA6-99D4-B9B84447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50E-0697-4C70-84F6-FF3CC39F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AF94-94A2-4C98-B06A-217C4721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5308-8F3B-4C9E-BC55-4DDA97E5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1034-9D95-4838-8849-F0082A1A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EC7-A301-4646-8128-219AEC71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76F6-BF63-4890-9CC1-CA8A6660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9EE-624F-4BD5-BDED-EF6C4818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912-DF9A-469E-B168-0A2DC36D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C46-C9B6-4632-9FD8-5137077E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7D9-C84C-41C2-AC26-AB66D5C6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6B22-E77C-4DFF-B33B-65677145C9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28769959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Особливості організації та проведення психолого - педагогічних консиліум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427640" y="4292640"/>
            <a:ext cx="4024080" cy="18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ислар О.В.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методист-псиихолог  РМК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28769959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ункції у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чителів – предметник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ів, виховател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799308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характеризують конкретних учнів або їх групи за показни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труднощі та особливості що проявляються під час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усних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исьмових відповідей, відповідей біля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дошки; труднощі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що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виникають під час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асвоєння нового матеріалу або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овторення,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виконання творчих завда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можливі причини описаних труднощ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опис типового для учня емоційного стану на уро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опис ситуацій, що викликають в учнів різні емоційні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труднощі (плач, агресія, роздратування та і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28769959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109160" y="619200"/>
            <a:ext cx="73501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Функції медич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сестр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Фізичний стан дитини на момент проведення консиліу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відповідність фізичного розвитку віковим норм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стан органів зору, слуху, кістково – м’язової систе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переносимість фізичних навантаж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Фактори ризи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наявність у минулому захворювань та травм, що можуть відбиватися на розвитку дити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фактори ризику за основними функціональними системами, наявність хронічних захворюв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Характеристика захворюваності за певний пері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28769959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4920" y="619200"/>
            <a:ext cx="80643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езультат консиліу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працьована комплексна програма супроводження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конкретні напрями діяльності і психологічні і педагогічні заходи), що узгоджуються з усіма учасниками і є обов’язковими для всіх спеціалістів, що ведуть навчальну, виховну, корекційну та розвивальну роботу з учнями цього кла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озподілені між його учасниками обов’язк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щодо ведення супроводжувальної та консультативної роботи, з визначенням приблизних строків викон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дсумковий наказ,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який затверджує рішення консиліум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826920" y="836640"/>
            <a:ext cx="77774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сихолого - педагогічний консиліу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це форма  залучення всіх зацікавлених осіб до обговорення та втілення конкретних напрямів діяльност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едагогічних і психологічних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ходів для ефективного вирішення проблемної шкільної ситуації на осн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і рівноправного співробітництва та особистої відповідальності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8360" y="83628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вданн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ихолого – педагогіч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о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консиліу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ення цілісного портрету школя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явлення характеру та причин відхилень у навчанні та поведінці учн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ка програми виховних та корекційних заход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значення шляхів та засобів корекційно – розвивальної роботи для педагогів та бать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10920" y="620280"/>
            <a:ext cx="806436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инцип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ізації психолого – педагогічного консиліум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комплексність вивчен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ередбачає тісну взаємодію різних спеціалісті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дотримання інтересів учн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8769959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Види психолого – педагогіч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х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консиліу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1440" y="1267920"/>
            <a:ext cx="8013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ервинні консиліуми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проводяться після завершення обстеження (кінець жовтня). Їхня мета – визначення особливостей розвитку школярів, можливих умов і форм їх навчання, необхідного супроводження педагогічного процес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ланові консиліуми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–проводяться в березні. Їх мета – оцінка динаміки процесу навчання та корекційних заходів, а також у разі необхідності внесення поправок та доповнень до корекційної або розвивальної роботи з  учн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Заключні консиліуми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– проводяться на заключних етапах навчання та завершенням корекційної роботи. Мета – оцінка знань учнів, стану емоційно – вольової та пізнавальної сфери, прогнозування успішності учнів у подальшому навчанн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озапланові консиліуми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проводяться на вимогу класного керівника або інших педагогів, що працюють з учнями в разі необхідності (виникнення несподіваних проблем у навчанні, вихованні або в процесі корекційної роботи. раптових афективних реакцій. Мета – виявлення причин проблеми, що виникла, знаходження адекватних способів її подолання. До участі в таких консиліумах, як правило запрошуються учні відповідного клас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28769959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Склад консиліум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44792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заступник з навчально-виховної робо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сихоло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- класний керівник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учителі–предметники, що викладають у відповідному класі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ихователі, які здійснюють педагогічну роботу у позаурочний час;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медична сестра (за наявності і потреби)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логопед  (за наявності і потреб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539280" y="404640"/>
            <a:ext cx="80139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Функції заступника директора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дає організаційну, адміністративну та методичну допомог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ляє схему проведення консиліум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становлює порядок обговорення та слідкує за дотриманням регламенту обговоре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тримує та аналізує узагальнену інформацію щодо класів, паралелей та окремих учнів (по відношенню до яких потрібне індивідуальне обговорення або співбесіда з батька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нтролює хід реалізації програми супроводж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971640" y="620640"/>
            <a:ext cx="742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Функції психоло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дійснює обробку психодіагностичних обстежень, що були проведені згідно з програмою підготов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готує інформацію за двома напрям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Інформація про конкретних учні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) опис індивідуально – психологічних особливостей уч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2) сфери психічного життя дитини, у яких виявлено певні порушення або відхилення  від вікової, психічної або соціальної норми. По можливості вказуються причини існуючих поруше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3) сфери психічного життя, розвиток яких характеризується вираженими індивідуальними особливостями та опис їхніх реальних прояв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4) адекватні форми супроводже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Узагальнена інформація щодо класу (зведені таблиці показників, що вивчаються на етапі діагнос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8769959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Функції  клас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го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керів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ираючись на результати власних спостережень та систематизації спостережень інших педагогів, готує педагогічну та психологічну характеристику навчальної діяльності й поведінки класу в цілому та окремих учнів, за такими показник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кількісні та якісні характеристики навчальної   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діяльності (успішність з предметів. можливі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ричини низької або нерівної успішності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психологічні особливості класу (за результатами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діагностики та консультацій психолог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показники поведінки та спілкування в навчальних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ситуаці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умови сімейного вихо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7T12:05:30Z</dcterms:created>
  <dc:creator>ноутбук</dc:creator>
  <dc:description/>
  <dc:language>en-US</dc:language>
  <cp:lastModifiedBy>User</cp:lastModifiedBy>
  <dcterms:modified xsi:type="dcterms:W3CDTF">2015-12-15T10:22:06Z</dcterms:modified>
  <cp:revision>61</cp:revision>
  <dc:subject/>
  <dc:title>Основні форми та методи підвищення фахової майстерності працівників психологічної служби Глибоцького району</dc:title>
</cp:coreProperties>
</file>